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9B2E-5BC3-4E79-AA44-09A14E74B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574C-9231-4F27-9A3B-960DB93CD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5D0A-3DC4-4D43-8B49-756814DAA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A4B7-05F6-489A-B967-2BBA656FB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BCDEC-5878-4630-A04B-074BFE0BB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AAEF-93B5-48AD-A3B2-125A6545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633A-D4FC-47A3-85DF-D93002C9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A095-BB99-42BA-9C79-5E1BDC66D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2A32-304B-4152-BC85-5E8D89AB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277A0-A6F5-404C-9B43-2298C429D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1A12-71D7-498D-AF11-DAC42B71E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ACD1-FD0D-4ADA-9BAA-9DF46932E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C59F-4F38-417E-B2DD-49F3296AC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4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all aspects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all directions, steps, and o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s and explains appropriate content-specific examples accurat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sound reasoning, arguments, and/or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use of evaluating, analyzing, and apply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3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most aspects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most directions, steps, and o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s and explains appropriate content-specific examples, however, some inaccurate information i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inferential reasoning, arguments, and/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use of analyzing, and apply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2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some aspects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some directions, steps, and or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attempt to cite and explain some content-specific examples, and/or inaccurate information is inclu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concrete reasoning, arguments, and/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the use of analyzing skills in a literal man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vel 1 Rubr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tudent response meets the following crite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demonstrates any aspect of the writing assig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s few directions, steps, and or procedures or none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es inaccurate or inappropriate examp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loys little or no evidence of reasoning, arguments, and/or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nstrates little or no evidence of any apparent reasoning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20:01:43Z</dcterms:created>
  <dc:creator>student</dc:creator>
  <dc:description/>
  <dc:language>en-US</dc:language>
  <cp:lastModifiedBy>student</cp:lastModifiedBy>
  <dcterms:modified xsi:type="dcterms:W3CDTF">2012-11-13T20:02:04Z</dcterms:modified>
  <cp:revision>1</cp:revision>
  <dc:subject/>
  <dc:title>Level 4 Rubric</dc:title>
</cp:coreProperties>
</file>