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7258-94D5-4531-87EE-EADBFE688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DADE-064D-4502-AD0E-761267A0C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5CF-8CFB-4F73-99C8-9FB358331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A9E5-3CD8-4ED9-996A-A5612C14B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F011-3416-4E0C-AAA9-CC3F24A0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7409-5D3A-4365-9A14-709B1A257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EC33-2DE5-42B8-B16C-1C5FCC28D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9D97-B4AF-4974-92F1-C7BA18B35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A5F9-38D0-431F-B454-44A494C8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4D04-1C30-49DA-83C2-56AB7AA6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77327-7491-4630-8B39-802E9792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DE1F-1963-411E-8239-A27CB9E6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5156A-96FE-4337-9ED1-CCEF6470F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Which disease do you feel is the most dangerous?  Why?  Use information/statistics from the articles to support your opin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scribe 4 things you learned about this disease you did not know before researchin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paragrap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If you had plenty of money and wanted to donate to one of the disease’s research programs, which one would you choose?  Why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ACH PARAGRAPH SHOULD BE AT LEAST 5 SENTENC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9:37:16Z</dcterms:created>
  <dc:creator>student</dc:creator>
  <dc:description/>
  <dc:language>en-US</dc:language>
  <cp:lastModifiedBy>student</cp:lastModifiedBy>
  <dcterms:modified xsi:type="dcterms:W3CDTF">2012-11-13T19:37:40Z</dcterms:modified>
  <cp:revision>1</cp:revision>
  <dc:subject/>
  <dc:title>Slide 1</dc:title>
</cp:coreProperties>
</file>