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1E8-B83B-4A6A-A563-F3D622B2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12E-1D3B-4543-985D-6D6A4B34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A58-1EBC-4450-9F95-C1F89120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B40-9F93-43AC-9027-23C8C47D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FE7-5DE5-4CA4-85E5-AF8E1A4B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2C3-69E3-4A80-99A2-C213E60C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565-B845-4773-8777-C15390FF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BDE-7F34-4380-8402-F1ACCA9A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1EA-E8A8-44AB-9CC3-EC6C72D6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2C7-6FCD-4526-87E9-70A341C6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CEE-50BA-4C84-9043-9F0E2D60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E7D-66F7-46D9-9D49-E6C9BCD5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AE7C-BCAD-439A-80C4-9307A55FF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ich disease do you feel is the most dangerous?  Why?  Use information/statistics from the articles to support your opin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scribe 4 things you learned about this disease you did not know before researc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f you had plenty of money and wanted to donate to one of the disease’s research programs, which one would you choose?  Wh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ARAGRAPH SHOULD BE AT LEAST 5 SENTEN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9:37:16Z</dcterms:created>
  <dc:creator>student</dc:creator>
  <dc:description/>
  <dc:language>en-US</dc:language>
  <cp:lastModifiedBy>student</cp:lastModifiedBy>
  <dcterms:modified xsi:type="dcterms:W3CDTF">2012-11-13T19:37:40Z</dcterms:modified>
  <cp:revision>1</cp:revision>
  <dc:subject/>
  <dc:title>Slide 1</dc:title>
</cp:coreProperties>
</file>