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6EE-301A-4F10-81B1-EBED3D034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E188-7B7D-4487-A6BB-3F95CF02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596B-3BE9-490B-9721-078393B47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8481-03A7-42E7-866C-496861F1D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807-3F18-4A1C-A7E9-86E40559A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FB2-7F28-44CE-B314-02DA676BA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054C-0537-47AD-91A2-075ADF4E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B6887-F15C-430C-A313-EF7E72FBB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9B29-D043-416E-AC33-508864097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38BB-6B6B-4F7A-94BE-4D383FA9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9351-0465-4449-A808-A4906240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29BE-42DF-47EA-BB4D-9C0A5DB46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242F7-CA38-446B-8A56-3E803AE60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4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all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all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and explains appropriate content-specific examples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sound reasoning, arguments, and/or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evaluating, analyzing, and apply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3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most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most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and explains appropriate content-specific examples, however, some inaccurate information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inferential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analyzing, and apply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2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some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some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ttempt to cite and explain some content-specific examples, and/or inaccurate information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concrete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analyzing skills in a literal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1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emonstrates any aspect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few directions, steps, and or procedures or none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inaccurate or inappropriate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little or no evidence of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little or no evidence of any apparent reason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20:01:43Z</dcterms:created>
  <dc:creator>student</dc:creator>
  <dc:description/>
  <dc:language>en-US</dc:language>
  <cp:lastModifiedBy>student</cp:lastModifiedBy>
  <dcterms:modified xsi:type="dcterms:W3CDTF">2012-11-13T20:02:04Z</dcterms:modified>
  <cp:revision>1</cp:revision>
  <dc:subject/>
  <dc:title>Level 4 Rubric</dc:title>
</cp:coreProperties>
</file>