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8E95-A048-47C4-9A85-18705033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73F5-B6CB-4E44-A649-4C9E2DB5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787-D1FE-431A-A203-48E120AB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D63-24BC-475F-BCF9-8F238763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B47-F681-46BE-A523-F9A105A2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B50-825D-4DE4-AAF0-8A8536F8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27B4-548D-42A2-A080-AF2A95B7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87A-551B-4958-B6AC-7C184DC5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E8E-4EDB-4CCC-B26D-96DB111E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60E-B0B1-448E-A15C-ED4CD933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A34-262E-4EF2-B8F3-975F4EBA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F09-84E0-4896-A25C-253A4217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2C46-4254-4410-A7D0-A44954F39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4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all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all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and explains appropriate content-specific examples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sound reasoning, arguments, and/or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evaluating, analyzing, and apply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3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most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most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and explains appropriate content-specific examples, however, some inaccurate information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inferential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analyzing, and apply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2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some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some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ttempt to cite and explain some content-specific examples, and/or inaccurate information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concrete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analyzing skills in a literal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1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emonstrates any aspect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few directions, steps, and or procedures or none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inaccurate or inappropriate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little or no evidence of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little or no evidence of any apparent reason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20:01:43Z</dcterms:created>
  <dc:creator>student</dc:creator>
  <dc:description/>
  <dc:language>en-US</dc:language>
  <cp:lastModifiedBy>student</cp:lastModifiedBy>
  <dcterms:modified xsi:type="dcterms:W3CDTF">2012-11-13T20:02:04Z</dcterms:modified>
  <cp:revision>1</cp:revision>
  <dc:subject/>
  <dc:title>Level 4 Rubric</dc:title>
</cp:coreProperties>
</file>