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CBB-0776-4B75-B3C6-21F651F4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6AC-C1DC-40A0-8F4A-9538FC70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30F-49DD-4A7C-9D29-7BCF657F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BB5-3ADB-4CB9-9A46-299E0587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D65-AA59-46F3-8C24-C2C3F414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CA6-FA8E-475E-BBAC-645F0417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3A5-8BC9-4C20-9A2B-A3004A28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C1B-0E54-4935-A185-7C403DAE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953-CA16-4388-976C-116C8B77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BB9-6DD8-42D1-BA81-E1ABF226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467-20F4-4666-920D-A79EAA06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F2A-0BDD-4FC6-9CA9-24F2260F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B19B-7EE3-4D2B-AD32-181BD51E3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ich disease do you feel is the most dangerous?  Why?  Use information/statistics from the articles to support your opin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4 things you learned about this disease you did not know before researc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f you had plenty of money and wanted to donate to one of the disease’s research programs, which one would you choose?  Wh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AGRAPH SHOULD BE AT LEAST 5 SENTE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37:16Z</dcterms:created>
  <dc:creator>student</dc:creator>
  <dc:description/>
  <dc:language>en-US</dc:language>
  <cp:lastModifiedBy>student</cp:lastModifiedBy>
  <dcterms:modified xsi:type="dcterms:W3CDTF">2012-11-13T19:37:40Z</dcterms:modified>
  <cp:revision>1</cp:revision>
  <dc:subject/>
  <dc:title>Slide 1</dc:title>
</cp:coreProperties>
</file>